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CBE-67C1-4C28-B27E-2AB70306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803-2CE4-4C59-AD1D-7F06EDFF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DBA-7711-435D-A7FA-ABBE0278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6EC-19CA-4A27-9011-ABB53DD9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029-DA50-4CB3-B58F-CFF4FE4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714-38EC-4521-BB8C-B8E12F7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B1B-A5F0-4DB1-BC49-CFD02F9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0A4-2A79-4CA2-A99A-19A42F2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93D-3C5A-40AC-AB2E-A3773FBE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30C-E545-44E2-BCB1-B57E629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325-C68F-41A6-9C0D-C5264F48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3EA-3ED1-4A47-85F7-C64311A2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CB84-ACF5-46AC-92DC-AAEE06AF0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j.5ykj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97788.com/pr/detail_auction_102_398716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97788.com/pr/detail_102_1475803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ingLiU-ExtB"/>
                <a:ea typeface="MingLiU-ExtB"/>
              </a:rPr>
              <a:t>29 </a:t>
            </a:r>
            <a:r>
              <a:rPr b="1" lang="zh-CN" sz="5400" spc="-1" strike="noStrike">
                <a:solidFill>
                  <a:srgbClr val="000000"/>
                </a:solidFill>
                <a:latin typeface="MingLiU-ExtB"/>
                <a:ea typeface="MingLiU-ExtB"/>
              </a:rPr>
              <a:t>木兰从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duyanlin\Desktop\二年级上学路上.png"/>
          <p:cNvPicPr/>
          <p:nvPr/>
        </p:nvPicPr>
        <p:blipFill>
          <a:blip r:embed="rId2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61206173416368"/>
          <p:cNvPicPr/>
          <p:nvPr/>
        </p:nvPicPr>
        <p:blipFill>
          <a:blip r:embed="rId2"/>
          <a:stretch/>
        </p:blipFill>
        <p:spPr>
          <a:xfrm>
            <a:off x="2771640" y="907920"/>
            <a:ext cx="5185080" cy="2887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0" y="3500280"/>
            <a:ext cx="7162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d93"/>
                </a:solidFill>
                <a:latin typeface="Calibri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　父亲年老多病，难以出征；弟弟又小，还不够当兵的年龄。自己理应为国为家分忧</a:t>
            </a:r>
            <a:r>
              <a:rPr b="1" lang="zh-CN" sz="3600" spc="-1" strike="noStrike">
                <a:solidFill>
                  <a:srgbClr val="111d93"/>
                </a:solidFill>
                <a:latin typeface="Calibri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11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449568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4495680" y="45720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610620391016736"/>
          <p:cNvPicPr/>
          <p:nvPr/>
        </p:nvPicPr>
        <p:blipFill>
          <a:blip r:embed="rId2"/>
          <a:stretch/>
        </p:blipFill>
        <p:spPr>
          <a:xfrm>
            <a:off x="324000" y="836640"/>
            <a:ext cx="828036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42920" y="3429000"/>
            <a:ext cx="71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木兰告别了亲人，披战袍，跨骏马，渡黄河，过燕山，来到了前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6248520" y="44197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1066680" y="53341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3124080" y="52578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181480" y="53341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同侧圆角矩形 4"/>
          <p:cNvSpPr/>
          <p:nvPr/>
        </p:nvSpPr>
        <p:spPr>
          <a:xfrm>
            <a:off x="46836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67_JPG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同侧圆角矩形 4"/>
          <p:cNvSpPr/>
          <p:nvPr/>
        </p:nvSpPr>
        <p:spPr>
          <a:xfrm>
            <a:off x="611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71640" y="206064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花木兰，武艺精，替父从军去出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换下女装穿战袍，英勇善战立大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战争持续十二年，为家为国一份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待到战争结束时，探望将士都吃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赫赫战功木兰立，女扮男装传美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同侧圆角矩形 4"/>
          <p:cNvSpPr/>
          <p:nvPr/>
        </p:nvSpPr>
        <p:spPr>
          <a:xfrm>
            <a:off x="539640" y="1052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diamond.gif (4987 字节)"/>
          <p:cNvPicPr/>
          <p:nvPr/>
        </p:nvPicPr>
        <p:blipFill>
          <a:blip r:embed="rId2"/>
          <a:stretch/>
        </p:blipFill>
        <p:spPr>
          <a:xfrm>
            <a:off x="7885080" y="126828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iamond.gif (4987 字节)"/>
          <p:cNvPicPr/>
          <p:nvPr/>
        </p:nvPicPr>
        <p:blipFill>
          <a:blip r:embed="rId3"/>
          <a:stretch/>
        </p:blipFill>
        <p:spPr>
          <a:xfrm>
            <a:off x="7885080" y="249228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iamond.gif (4987 字节)"/>
          <p:cNvPicPr/>
          <p:nvPr/>
        </p:nvPicPr>
        <p:blipFill>
          <a:blip r:embed="rId4"/>
          <a:stretch/>
        </p:blipFill>
        <p:spPr>
          <a:xfrm>
            <a:off x="7885080" y="378936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diamond.gif (4987 字节)"/>
          <p:cNvPicPr/>
          <p:nvPr/>
        </p:nvPicPr>
        <p:blipFill>
          <a:blip r:embed="rId5"/>
          <a:stretch/>
        </p:blipFill>
        <p:spPr>
          <a:xfrm>
            <a:off x="7812000" y="494172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diamond.gif (4987 字节)"/>
          <p:cNvPicPr/>
          <p:nvPr/>
        </p:nvPicPr>
        <p:blipFill>
          <a:blip r:embed="rId6"/>
          <a:stretch/>
        </p:blipFill>
        <p:spPr>
          <a:xfrm>
            <a:off x="7812000" y="112536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diamond.gif (4987 字节)"/>
          <p:cNvPicPr/>
          <p:nvPr/>
        </p:nvPicPr>
        <p:blipFill>
          <a:blip r:embed="rId7"/>
          <a:stretch/>
        </p:blipFill>
        <p:spPr>
          <a:xfrm>
            <a:off x="5219640" y="105264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diamond.gif (4987 字节)"/>
          <p:cNvPicPr/>
          <p:nvPr/>
        </p:nvPicPr>
        <p:blipFill>
          <a:blip r:embed="rId8"/>
          <a:stretch/>
        </p:blipFill>
        <p:spPr>
          <a:xfrm>
            <a:off x="6516720" y="105264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diamond.gif (4987 字节)"/>
          <p:cNvPicPr/>
          <p:nvPr/>
        </p:nvPicPr>
        <p:blipFill>
          <a:blip r:embed="rId9"/>
          <a:stretch/>
        </p:blipFill>
        <p:spPr>
          <a:xfrm>
            <a:off x="3492360" y="1052640"/>
            <a:ext cx="6858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67"/>
          <p:cNvPicPr/>
          <p:nvPr/>
        </p:nvPicPr>
        <p:blipFill>
          <a:blip r:embed="rId2"/>
          <a:stretch/>
        </p:blipFill>
        <p:spPr>
          <a:xfrm>
            <a:off x="324000" y="836640"/>
            <a:ext cx="8496000" cy="532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1116000" y="206064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花木兰，武艺精，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从军去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换下女装穿战袍，英勇善战立大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战争持续十二年，为家为国一份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待到战争结束时，探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士都吃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赫赫战功木兰立，女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装传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同侧圆角矩形 4"/>
          <p:cNvSpPr/>
          <p:nvPr/>
        </p:nvSpPr>
        <p:spPr>
          <a:xfrm>
            <a:off x="611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835280" y="1838520"/>
            <a:ext cx="525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木兰从军</a:t>
            </a:r>
            <a:br>
              <a:rPr sz="3600"/>
            </a:b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热爱国家   尊老爱幼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                                       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女英雄 英勇善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                                               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静俊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11280" y="3311280"/>
            <a:ext cx="8064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木兰从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一篇历史传说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故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根据北朝民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木兰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改写而成。作者以饱含深情的笔触塑造了一个替父从军、爱家爱国的英雄形象。本文情节生动、形象鲜明，是一篇培养学生阅读、思考及想象能力和进行思想品德教育的好教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98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以饱含感情的笔触，描写了古代花木兰女扮男装，替父从军的事，塑造了一个光彩照人的英雄形象，赞扬了花木兰尊老爱幼、热爱祖国的优秀品质。使读者受到强烈感染，钦佩之情油然而生，禁不住心驰神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2484360" y="1268280"/>
            <a:ext cx="50659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寻找当代木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00000" y="242100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古代木兰代父从征成为千古传诵的英雄故事，如今，尽管身处和平时代，但是，在一些特殊的战争中，依然涌现出了许许多多当代木兰，你能说出一两个并简单介绍一下她们的英雄故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600200" y="208116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以饱含感情的笔触，描写了古代花木兰女扮男装，替父从军的事，塑造了一个光彩照人的英雄形象，赞扬了花木兰尊老爱幼、热爱祖国的优秀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m0623"/>
          <p:cNvPicPr/>
          <p:nvPr/>
        </p:nvPicPr>
        <p:blipFill>
          <a:blip r:embed="rId2"/>
          <a:stretch/>
        </p:blipFill>
        <p:spPr>
          <a:xfrm>
            <a:off x="4643280" y="907920"/>
            <a:ext cx="2953080" cy="3961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042920" y="191628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代有一位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英雄，名叫花木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31200" y="4941720"/>
            <a:ext cx="77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花木兰是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2286000" y="6858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427720" y="501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我国古代的一位女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同侧圆角矩形 2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042920" y="148428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看拼音，写词语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ēnɡ bīnɡ       jiànɡ shì     wén shū     cónɡ jū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)      (            )    (               )  (              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多音字组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燕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ān (        )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ānɡ (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àn (        )                 jiànɡ (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补充词语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焦急（    ）（    ）   再（    ）追（    ）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文（    ）俊（    ）  （   ）通（    ）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赫赫（   ）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866960" y="220500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征      兵            将    士       文     书        从    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393640" y="292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燕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燕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344920" y="292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2629080" y="4743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战        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818440" y="402444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万         分              度            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574720" y="43830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笔            美        神            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1332000" y="1197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谢谢同学们的精彩表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59280" y="2708280"/>
            <a:ext cx="3240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再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A003987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765000"/>
            <a:ext cx="8280360" cy="532800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58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A014758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836640"/>
            <a:ext cx="82803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62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0" y="23493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花木兰为什么要去从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539800" y="33256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花木兰是怎样说服家人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1905120"/>
            <a:ext cx="7162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 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袍   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万分    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       文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4440" y="1523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m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90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zhēng b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87800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479280" y="1523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l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35680" y="23432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宋体"/>
              </a:rPr>
              <a:t>p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46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946120" y="243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shèng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8040" y="3276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b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548000" y="40194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宋体"/>
              </a:rPr>
              <a:t>bàn n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726800" y="403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hè 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175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641560" y="4876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j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diamond.gif (4987 字节)"/>
          <p:cNvPicPr/>
          <p:nvPr/>
        </p:nvPicPr>
        <p:blipFill>
          <a:blip r:embed="rId2"/>
          <a:stretch/>
        </p:blipFill>
        <p:spPr>
          <a:xfrm>
            <a:off x="2133720" y="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6"/>
          <p:cNvSpPr/>
          <p:nvPr/>
        </p:nvSpPr>
        <p:spPr>
          <a:xfrm>
            <a:off x="3059280" y="9079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读好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>
            <a:hlinkClick r:id="" action="ppaction://hlinkshowjump?jump=previousslide"/>
          </p:cNvPr>
          <p:cNvSpPr/>
          <p:nvPr/>
        </p:nvSpPr>
        <p:spPr>
          <a:xfrm>
            <a:off x="137160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290240" y="32004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j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061280" y="243828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ji</a:t>
            </a:r>
            <a:r>
              <a:rPr b="0" lang="en-US" sz="2400" spc="-1" strike="noStrike">
                <a:solidFill>
                  <a:srgbClr val="0b03a5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4489560" y="23623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同侧圆角矩形 9"/>
          <p:cNvSpPr/>
          <p:nvPr/>
        </p:nvSpPr>
        <p:spPr>
          <a:xfrm>
            <a:off x="46836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905120"/>
            <a:ext cx="7162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 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袍   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万分    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       文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46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75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iamond.gif (4987 字节)"/>
          <p:cNvPicPr/>
          <p:nvPr/>
        </p:nvPicPr>
        <p:blipFill>
          <a:blip r:embed="rId2"/>
          <a:stretch/>
        </p:blipFill>
        <p:spPr>
          <a:xfrm>
            <a:off x="250920" y="522936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708360" y="12682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  <a:ea typeface="新宋体"/>
              </a:rPr>
              <a:t>你能读好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" action="ppaction://hlinkshowjump?jump=previousslide"/>
          </p:cNvPr>
          <p:cNvSpPr/>
          <p:nvPr/>
        </p:nvSpPr>
        <p:spPr>
          <a:xfrm>
            <a:off x="137160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066680" y="21337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13" h="21600">
                <a:moveTo>
                  <a:pt x="162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13" h="21600">
                <a:moveTo>
                  <a:pt x="13630" y="8224"/>
                </a:moveTo>
                <a:lnTo>
                  <a:pt x="17495" y="8224"/>
                </a:lnTo>
                <a:lnTo>
                  <a:pt x="17495" y="15221"/>
                </a:lnTo>
                <a:lnTo>
                  <a:pt x="18783" y="15221"/>
                </a:lnTo>
                <a:lnTo>
                  <a:pt x="18783" y="16144"/>
                </a:lnTo>
                <a:lnTo>
                  <a:pt x="13630" y="16144"/>
                </a:lnTo>
                <a:lnTo>
                  <a:pt x="13630" y="15221"/>
                </a:lnTo>
                <a:lnTo>
                  <a:pt x="14918" y="15221"/>
                </a:lnTo>
                <a:lnTo>
                  <a:pt x="14918" y="9129"/>
                </a:lnTo>
                <a:lnTo>
                  <a:pt x="13630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diamond.gif (4987 字节)"/>
          <p:cNvPicPr/>
          <p:nvPr/>
        </p:nvPicPr>
        <p:blipFill>
          <a:blip r:embed="rId3"/>
          <a:stretch/>
        </p:blipFill>
        <p:spPr>
          <a:xfrm>
            <a:off x="250920" y="393372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iamond.gif (4987 字节)"/>
          <p:cNvPicPr/>
          <p:nvPr/>
        </p:nvPicPr>
        <p:blipFill>
          <a:blip r:embed="rId4"/>
          <a:stretch/>
        </p:blipFill>
        <p:spPr>
          <a:xfrm>
            <a:off x="250920" y="2492280"/>
            <a:ext cx="685800" cy="60984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9"/>
          <p:cNvSpPr/>
          <p:nvPr/>
        </p:nvSpPr>
        <p:spPr>
          <a:xfrm>
            <a:off x="684360" y="1125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600200" y="13716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　  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jià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ɡ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将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　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ji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  <a:ea typeface="黑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ɡ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将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828800" y="13716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新宋体"/>
                <a:ea typeface="仿宋_GB2312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05120" y="396252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新宋体"/>
                <a:ea typeface="仿宋_GB2312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905120" y="396252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黑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n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燕山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　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yàn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燕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85652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856520" y="4419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侧圆角矩形 9"/>
          <p:cNvSpPr/>
          <p:nvPr/>
        </p:nvSpPr>
        <p:spPr>
          <a:xfrm>
            <a:off x="46836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63640" y="1916280"/>
            <a:ext cx="7162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 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袍   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万分    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       文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46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175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diamond.gif (4987 字节)"/>
          <p:cNvPicPr/>
          <p:nvPr/>
        </p:nvPicPr>
        <p:blipFill>
          <a:blip r:embed="rId2"/>
          <a:stretch/>
        </p:blipFill>
        <p:spPr>
          <a:xfrm>
            <a:off x="7812000" y="1125360"/>
            <a:ext cx="685800" cy="609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>
            <a:hlinkClick r:id="" action="ppaction://hlinkshowjump?jump=previousslide"/>
          </p:cNvPr>
          <p:cNvSpPr/>
          <p:nvPr/>
        </p:nvSpPr>
        <p:spPr>
          <a:xfrm>
            <a:off x="137160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21337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13" h="21600">
                <a:moveTo>
                  <a:pt x="162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13" h="21600">
                <a:moveTo>
                  <a:pt x="13630" y="8224"/>
                </a:moveTo>
                <a:lnTo>
                  <a:pt x="17495" y="8224"/>
                </a:lnTo>
                <a:lnTo>
                  <a:pt x="17495" y="15221"/>
                </a:lnTo>
                <a:lnTo>
                  <a:pt x="18783" y="15221"/>
                </a:lnTo>
                <a:lnTo>
                  <a:pt x="18783" y="16144"/>
                </a:lnTo>
                <a:lnTo>
                  <a:pt x="13630" y="16144"/>
                </a:lnTo>
                <a:lnTo>
                  <a:pt x="13630" y="15221"/>
                </a:lnTo>
                <a:lnTo>
                  <a:pt x="14918" y="15221"/>
                </a:lnTo>
                <a:lnTo>
                  <a:pt x="14918" y="9129"/>
                </a:lnTo>
                <a:lnTo>
                  <a:pt x="13630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43400" y="154512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能读好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侧圆角矩形 9"/>
          <p:cNvSpPr/>
          <p:nvPr/>
        </p:nvSpPr>
        <p:spPr>
          <a:xfrm>
            <a:off x="46836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16:28:51Z</dcterms:created>
  <dc:creator/>
  <dc:description/>
  <cp:keywords/>
  <dc:language>en-US</dc:language>
  <cp:lastModifiedBy>User</cp:lastModifiedBy>
  <dcterms:modified xsi:type="dcterms:W3CDTF">2018-02-21T02:48:12Z</dcterms:modified>
  <cp:revision>1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